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772856"/>
        <c:axId val="8646987"/>
      </c:barChart>
      <c:catAx>
        <c:axId val="817728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6987"/>
        <c:crosses val="autoZero"/>
        <c:auto val="1"/>
        <c:lblAlgn val="ctr"/>
        <c:lblOffset val="100"/>
        <c:noMultiLvlLbl val="0"/>
      </c:catAx>
      <c:valAx>
        <c:axId val="86469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728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324C-359D-4F34-BF95-E23AF961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8D1F-BC42-4795-8E8D-E8245EFB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2AEB-4AB2-4C50-956C-23263D1C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9AA8-DE61-4F00-9E62-51E5D3CB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259D-A73B-4C5C-B3C5-07C02A84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CEB0-25A8-406D-9660-D09A43ED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3E20-B604-4DAA-B028-3FCE99F8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E533-831A-457B-ABDC-5E70C912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06C8-3F9D-490D-8534-DB217699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534D-EA81-4F78-9A40-F4C842F0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6E18-4801-4A22-AA30-53036471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96C0-A7E9-44B5-BC1B-F717853A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7E8C1-FFF0-4B1A-9CB8-BEE90F8CD3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