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05708"/>
        <c:axId val="59856918"/>
      </c:barChart>
      <c:catAx>
        <c:axId val="68605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56918"/>
        <c:crosses val="autoZero"/>
        <c:auto val="1"/>
        <c:lblAlgn val="ctr"/>
        <c:lblOffset val="100"/>
        <c:noMultiLvlLbl val="0"/>
      </c:catAx>
      <c:valAx>
        <c:axId val="59856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05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B31-0240-4770-9FA4-3C2C685A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6C3-4435-4141-9B09-9325ABD2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E70-6674-4D18-B9D3-D4DFB391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0320-3217-44A2-902E-6A036860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8E4-94C0-4B5D-8E70-041B0EF0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410-68A9-4ECA-9FE0-221E24FB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0D5-A257-4AE5-9D37-6839D05D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486-DD29-4A6D-9600-DF939EA2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38F-CC48-4122-AEFA-3DEDA990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EA3-4E3A-4A06-BB6B-7041F1C7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225-3159-42A5-ADF7-ECC06223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89C-F82D-4BA7-B63E-41754040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6AC68-581C-4E66-ADDC-1777998FAF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