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33479"/>
        <c:axId val="4473823"/>
      </c:barChart>
      <c:catAx>
        <c:axId val="39033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3823"/>
        <c:crosses val="autoZero"/>
        <c:auto val="1"/>
        <c:lblAlgn val="ctr"/>
        <c:lblOffset val="100"/>
        <c:noMultiLvlLbl val="0"/>
      </c:catAx>
      <c:valAx>
        <c:axId val="4473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33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BBF5-9F6C-4578-836A-AD26EA55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DB3-0F45-4219-8222-B9894D08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D91-AC6D-4881-8BDB-3FE79EEC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ADB1-B754-4D88-AB03-E8090AAB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65F-11D9-4716-AD88-8906190E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E2A0-D73E-4324-88FD-80D54C0A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F93A-EDB1-4B82-B485-92A26C57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814-C2E9-4F0A-87F1-548EB95F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FE33-1477-46E8-8451-CDE806C8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9542-B8B1-4C6B-9072-D315DAC5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F232-2149-42F5-85EA-3483ABDE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5E56-F888-4EE0-B782-CCF8559C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6FD90-1D3E-40EC-B759-9DBD05ECD6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