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18147"/>
        <c:axId val="32135594"/>
      </c:barChart>
      <c:catAx>
        <c:axId val="51018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35594"/>
        <c:crosses val="autoZero"/>
        <c:auto val="1"/>
        <c:lblAlgn val="ctr"/>
        <c:lblOffset val="100"/>
        <c:noMultiLvlLbl val="0"/>
      </c:catAx>
      <c:valAx>
        <c:axId val="32135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8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6E5-940C-4B36-8C76-E340BC29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A50-9D97-4555-B1CC-CDFCCE9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478-9A9E-4099-B9B9-3C14A0BD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ACC-A6D0-4540-91BA-51290D13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F45-43A2-4C4E-8A1F-CFADBB2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872-37FB-4EE1-BFA9-52ED2878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181-E4F5-44A7-84CF-C7BDD9B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F2F-C51D-433A-8A34-B083DB1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4DD-CDE7-4CA2-9E72-401C0BE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0C9-F178-4F50-BB4F-0FDB57C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E6F-39AF-4FF2-B438-6CE608F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E12-2508-4747-BFD7-F221F71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75B5-9266-43AF-8BC3-06198144B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