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06308"/>
        <c:axId val="13136759"/>
      </c:barChart>
      <c:catAx>
        <c:axId val="49106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36759"/>
        <c:crosses val="autoZero"/>
        <c:auto val="1"/>
        <c:lblAlgn val="ctr"/>
        <c:lblOffset val="100"/>
        <c:noMultiLvlLbl val="0"/>
      </c:catAx>
      <c:valAx>
        <c:axId val="13136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06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B44-4D40-4B13-A8EB-A9E084C5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DA4-D094-4628-BE18-2D5FBC58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F10-6821-4AB8-90DA-E3F857AE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368-3F09-42A4-99AC-AC822503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808-0D4B-459F-8F9B-C206978E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607-2170-4FCF-9AD5-7FAB2E38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FE8-2760-4BDB-9275-A9261A4A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820-B092-48EE-8988-7CBF680E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84E-47B5-434C-A4B6-4827E3BE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3FD-FCB3-4904-AD77-992B2164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92A-71FD-4E21-91B4-018B620D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E57-7E06-42EA-84F9-314E00CF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EDAF1-F157-4053-8454-35334EDBE5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