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08030"/>
        <c:axId val="41360390"/>
      </c:barChart>
      <c:catAx>
        <c:axId val="606080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60390"/>
        <c:crosses val="autoZero"/>
        <c:auto val="1"/>
        <c:lblAlgn val="ctr"/>
        <c:lblOffset val="100"/>
        <c:noMultiLvlLbl val="0"/>
      </c:catAx>
      <c:valAx>
        <c:axId val="413603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080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569D-8302-4938-B4AF-65DA2136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8D95-8F08-4EC6-8CAE-53B00CEE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77D5-E9CE-42A1-84E6-4A66B86E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4BE7-CB27-4EF7-A599-24D303D0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EE58-E775-46E1-BE7B-45AB4D31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5408-69CC-4AE8-8DE2-606D43DD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6D89-DA91-4FFE-B102-1674A17B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9564-566A-49A3-A52A-636B6BF0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05A5-597C-4484-B531-EB782238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D81C-B9DE-4F8C-8F87-A503C047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8C91-47C2-421F-9940-290D1DAA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3109-608E-43B8-A9EB-E7D741CF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CE74C-304F-49DE-B6B9-C965670EF3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