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04281"/>
        <c:axId val="9011605"/>
      </c:barChart>
      <c:catAx>
        <c:axId val="41504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1605"/>
        <c:crosses val="autoZero"/>
        <c:auto val="1"/>
        <c:lblAlgn val="ctr"/>
        <c:lblOffset val="100"/>
        <c:noMultiLvlLbl val="0"/>
      </c:catAx>
      <c:valAx>
        <c:axId val="9011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04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C15-656A-4EDD-AD08-ACD750A8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451-64C4-4C00-96A0-62AAF19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AFB-4B58-438D-838F-96132AC9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97B-52E8-49A3-82A8-085C2530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988-0E8A-456C-BFAF-3B8F300B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BB2-8050-4C8B-8CB2-E23C9BE6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4D5-AE38-4301-A443-6AA29A5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A73-D056-4994-9ACD-2AADCD84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82A-BE35-457B-AF7B-1C23D07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7C7-AA34-49EE-8F21-DE253F24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2E2-3D65-49CE-8130-D06DF0F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AF1-5E7E-421C-BE75-5C2A2A4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B6E9D-D794-43C0-BACE-66C9352EE0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