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99552"/>
        <c:axId val="70183987"/>
      </c:barChart>
      <c:catAx>
        <c:axId val="26399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3987"/>
        <c:crosses val="autoZero"/>
        <c:auto val="1"/>
        <c:lblAlgn val="ctr"/>
        <c:lblOffset val="100"/>
        <c:noMultiLvlLbl val="0"/>
      </c:catAx>
      <c:valAx>
        <c:axId val="70183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9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7CC-A436-495F-BDC2-86E7214D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DAE-85FD-4DB5-80B8-F72C0485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20-AEB7-432F-90A1-C08DB736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BF3-5180-4FB6-81E0-2B9EC377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DEA-728E-4294-9282-532DCCE2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359-B5A6-4C8B-9341-F63534A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790-02AE-400C-AE1A-A393117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930-15C2-43D9-B935-5BBB63A2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B8A-E47F-46AD-BF80-2437EB4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865-C970-4AE9-A300-B15F989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F6A-78DA-4E3D-B44B-BB596B8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22A-BD44-4BB8-A5AF-D26E873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4149-C943-482B-8418-F631B43E1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