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91533"/>
        <c:axId val="62586184"/>
      </c:barChart>
      <c:catAx>
        <c:axId val="69491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86184"/>
        <c:crosses val="autoZero"/>
        <c:auto val="1"/>
        <c:lblAlgn val="ctr"/>
        <c:lblOffset val="100"/>
        <c:noMultiLvlLbl val="0"/>
      </c:catAx>
      <c:valAx>
        <c:axId val="62586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91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799-B100-4378-9332-DEF12DDB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E92-7D4D-404F-B3BD-A215DC60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847-3B64-4F51-85B6-3AFBE736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B31-34CE-46F3-8988-7D021131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BF4-43BB-4F88-AFC2-71D18F2F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816-05C7-4E8D-8E28-D7166FAE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81C-2D17-4405-9AAA-2119D7C4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FCF-2A53-407A-AD95-71FEBB55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F25-43E2-479C-94CD-72C6EF15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17B-B964-49C4-B85F-E00B5A98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F41-324D-417B-BA75-F3705308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7D3-4322-4C0C-A2CF-0EFDB37E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296FF-15A4-4CBE-ACD3-F602E13422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