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43426"/>
        <c:axId val="9996073"/>
      </c:barChart>
      <c:catAx>
        <c:axId val="52343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6073"/>
        <c:crosses val="autoZero"/>
        <c:auto val="1"/>
        <c:lblAlgn val="ctr"/>
        <c:lblOffset val="100"/>
        <c:noMultiLvlLbl val="0"/>
      </c:catAx>
      <c:valAx>
        <c:axId val="9996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43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C4D-CD41-42A9-A31A-1F977479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E28-086F-4C1A-AB94-D04A346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CB8-61C1-480D-BC72-3F66AE90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E9A-57E2-4C22-B83F-FDA3B0D3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BA2-C316-40C2-865B-FC66E02E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89E-3071-4D59-BE3C-A8A1BDC8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8C9-A729-4A90-9372-D57FA7D4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89D-D13E-4400-B473-3A9D2253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4C5-2690-43F8-8B93-1A4DB418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197-4094-4E17-A645-C8C58BFE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005-2230-4D9C-91CE-438BACD0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974-0F19-4C59-ACE8-A0AC8E6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624C0-3572-4E5D-A781-B2BE57317D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