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33555"/>
        <c:axId val="88905144"/>
      </c:barChart>
      <c:catAx>
        <c:axId val="38033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05144"/>
        <c:crosses val="autoZero"/>
        <c:auto val="1"/>
        <c:lblAlgn val="ctr"/>
        <c:lblOffset val="100"/>
        <c:noMultiLvlLbl val="0"/>
      </c:catAx>
      <c:valAx>
        <c:axId val="88905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33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8AB-DFC4-495E-86B8-70EC1811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EEF-B769-4C7D-8666-6C2AA095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057-5905-4A71-84E4-EB5B2BA4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DB2-9606-43A9-93B1-AFBC52A7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16E-01A0-48C3-BFF8-5B6C5A41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384-4AFC-4D84-ADFC-78E25F1C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5F3-58B4-4796-82C6-3E67038B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7B5-A97F-4207-A497-D5CA0284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77E-E1B2-492B-8BA7-91881501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F39A-5F34-423C-A05C-285F78C9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E52-B9CF-4A8C-9670-4F40DFA0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4C2-858C-4A5D-8E96-CE9CEC01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3D2FD-19F4-479A-9EB3-EE0514C305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