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540489"/>
        <c:axId val="24389014"/>
      </c:barChart>
      <c:catAx>
        <c:axId val="595404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89014"/>
        <c:crosses val="autoZero"/>
        <c:auto val="1"/>
        <c:lblAlgn val="ctr"/>
        <c:lblOffset val="100"/>
        <c:noMultiLvlLbl val="0"/>
      </c:catAx>
      <c:valAx>
        <c:axId val="243890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5404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C12B-3940-4961-B680-42283BF0C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8569-6082-4382-B299-FEF1DCE7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D86F-C33B-4A87-8992-A56AE6CC0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22E4-C74A-4D00-99C5-F1300AB8F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B351-1883-4BD4-A790-39B88FB9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9320-27EA-427F-866E-9108B842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365E-825F-453B-BDFA-0363B2D0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365D-3408-4B7D-A5E5-475E0DB3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B7EC-0317-4B5B-AF52-5FFA4E68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D3BF-2B72-42F9-976B-42C15307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699A-1076-481A-971E-A07E5D8F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3268-0C3D-4B2D-A812-7E6DEBF4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2FDD1-A855-40B1-9D2E-B61440AE14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