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40835"/>
        <c:axId val="24067436"/>
      </c:barChart>
      <c:catAx>
        <c:axId val="74540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67436"/>
        <c:crosses val="autoZero"/>
        <c:auto val="1"/>
        <c:lblAlgn val="ctr"/>
        <c:lblOffset val="100"/>
        <c:noMultiLvlLbl val="0"/>
      </c:catAx>
      <c:valAx>
        <c:axId val="24067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40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184-C10B-4124-8DDB-C3144D38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D73-B9A4-4897-8D97-4661570C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E4E-2B62-4ED3-9F45-FA8AF684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9A3-074E-4772-AD2B-B2EDCBA3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672-31C7-44C0-A821-928D7D03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39B-4BAD-482C-9F73-55305B64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5D6-06AA-478D-9D16-3ABF48C0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5C9-15C1-49F0-842C-CE9D7814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1CA-38AE-492A-AE78-CA4DBFE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AFE-6FA1-47FE-97F9-232057DE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CE2-AC19-4F91-A2D2-906A21F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07D-B79A-41FC-A7BE-D2C0C616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F82E8-C359-41C5-8B32-2151153520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