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45258"/>
        <c:axId val="41060528"/>
      </c:barChart>
      <c:catAx>
        <c:axId val="29945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60528"/>
        <c:crosses val="autoZero"/>
        <c:auto val="1"/>
        <c:lblAlgn val="ctr"/>
        <c:lblOffset val="100"/>
        <c:noMultiLvlLbl val="0"/>
      </c:catAx>
      <c:valAx>
        <c:axId val="41060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45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119-B9F7-4876-A865-C43F6B49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8E6-0437-461F-AD27-4B487A1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49A-EA82-4530-831F-C00CA579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B23-7066-48D4-936B-27ABC1BC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911-66A4-4F4B-BFAF-9E8CB210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D80-FA02-47F4-A9AF-22F5ACDD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5C7-E1D9-4BA4-881C-15E75240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ADD-B8A1-4F03-815E-9FAD7E7C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6EF-AAD8-413D-B294-7969D97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00A-7870-45AD-BB4C-DB698C5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AB7-81A3-48D9-A314-9C058E71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CDB-B442-4174-B6EA-4F83B07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F4C34-E9EF-4D1E-828E-7C0E20D3C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