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71820"/>
        <c:axId val="16972489"/>
      </c:barChart>
      <c:catAx>
        <c:axId val="34771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72489"/>
        <c:crosses val="autoZero"/>
        <c:auto val="1"/>
        <c:lblAlgn val="ctr"/>
        <c:lblOffset val="100"/>
        <c:noMultiLvlLbl val="0"/>
      </c:catAx>
      <c:valAx>
        <c:axId val="16972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71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0AEF-EA23-4319-BB73-5AAD7906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D83-9A70-4985-A3EA-AA9ACABC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5CC-C300-4D97-90F9-A450C90C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10D3-9F27-4E4E-BDF7-FF133FDF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5F7-F6E6-487A-AB4C-093C3D8D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BB2B-D67B-4A59-A780-5D4D47F7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A50-49BC-4A6B-8F15-0CE28A67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69A5-ED52-4D9A-A4AC-954A365A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E2B-D277-4724-A70B-86E62ACC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6CA-EC94-445D-97C3-7A9DE442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93A-673B-4F20-95F8-05B62911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5218-CD43-48BE-B25C-7DBC7752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3C097-9864-4E71-A803-52F327DFD7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