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816752"/>
        <c:axId val="2798690"/>
      </c:barChart>
      <c:catAx>
        <c:axId val="188167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8690"/>
        <c:crosses val="autoZero"/>
        <c:auto val="1"/>
        <c:lblAlgn val="ctr"/>
        <c:lblOffset val="100"/>
        <c:noMultiLvlLbl val="0"/>
      </c:catAx>
      <c:valAx>
        <c:axId val="27986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167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A4DE-BEAD-40A3-9186-BBBB0BC21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76C8-A61F-47BB-AA38-D3CC9CF8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76BB-4674-4BF8-A4E0-5D1EF90E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D965-C36A-4353-AE16-4C0C56437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CC87-D617-48CE-99A5-3FC0FDD7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52A9-27F5-43B2-848A-27856025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702B-299B-429A-A7BD-4F962C54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DFFD-7C1A-43C8-93E8-1A65C204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C8F0-D8A7-4C81-8FFE-F63A58CE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C3BA-22B3-4A06-AD80-0A024698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C0E5-9A03-495B-89AB-F5A0DCC2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55BB-320F-48C7-8851-B7B66671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3A75B-D03A-4043-BC52-929059AD48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