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B34B8C-918A-429C-B09C-85DF2FFEC3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6B1FB-7EC3-46CA-9FC4-D83A9F8F3C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EEE832-61D6-437F-8477-DAE4E284758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468D55-EA3F-452E-A89B-97B4FD7CF0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2D6275F-2134-4E27-B56D-2026E8EE6E5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F88E29-7F36-4821-985E-B1A55BCE90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4C2C49-8D02-4CF6-86DC-6D768A6539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11892C-BD92-444B-83D1-C7541F1344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E1F130E-5C4A-41CA-A62D-39BAB8E84F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CD6978-9B6A-4C9B-A3D0-5483998AD6D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BA5057-54A8-45A3-B79E-62790B7307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EF11E-F1F9-4C64-B0BB-A2BB8F6BA2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C1AFD0-1E0A-44A4-BD1E-765480E66B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FDB5F-8746-4513-A162-F88E46E5052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D32483-E417-4CA8-ADD1-5464652547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DB0EBF-3667-42E7-AD28-DA2C011F28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B14ECFA-F2F3-42B0-82EE-2A9B6EEAE7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25B918-D876-46C4-8E4B-13D22626CF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DB9E36-9F8A-44DE-A7ED-9C868A205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341460-3454-4118-86BF-5A65F52B4D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E9335E-DE8D-4474-B4A4-497AA1411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9BAD96-6CF5-4EAD-A415-204BDF77AF6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A8843-75F8-439E-8249-7F64EB2FE5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F66518-F4B4-4CEC-A567-89C631E7AAD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8B2E3-1B1B-4268-99FC-11593CEBA07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FCA3B9-B99E-4A4B-8DAB-79BCFE0F574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5EFCE0C-6B84-486D-B6A1-E010187E19E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71E8D-D6DD-4EBD-839F-74C64665D3C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71288-DBBA-4098-959F-95328E88CFBE}"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7D076-107A-4D23-B52B-81B5ECB4773C}"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D98D7-039B-46F3-B174-CC5EF968035C}"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F6912-CBEC-4906-9B00-340F49C4134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99D2-D95D-41E9-9C4A-3490EEB6230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8ADF-6D00-40D9-B681-5E76C3904786}"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E4E067-C865-477B-9FCB-B98A6D9A51AE}"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E16F16-9425-496A-B1CB-DBE20A8CE38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4FBE8-10ED-49AC-BDBA-FD06673414F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FE7E6-3667-473B-9EAB-0BB5A40FE41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F0D26-4BB8-4E4F-AB03-7016AB8EFDB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E4FE63-B72F-4888-8C04-83030C92137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E1736F-0662-4AA1-BF63-1AB1F1E2A300}"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B6DE01-B678-4F87-9ACA-40337992643D}"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4E7C6-98B5-437E-8CE4-F8FC9FB8DE5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CA246-3720-4C93-BE5A-8905EDD1A7B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1AE71-40F8-4822-A7A5-8C127FDC3AE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2DF8C-8644-419A-B2D9-9BC5B5685827}"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EFA32-E0EB-4F60-8DAD-DC98C8E28EA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59DF3-C822-4159-9F4D-E17BB1FE7368}"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15736-85B3-4D1E-B384-DA4F72EC05B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7E27BC-ABD2-443B-A8AD-8F5ADA3CFA4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B4649-2D3D-4CA5-A4A9-9CDFCDED1B5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365259-7884-43A6-92E2-C54C2C6DDFA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278DF-3FD0-4791-9346-13933E36602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7C36D0-9D6D-4D44-94F3-25D0F939199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9F0E1A-0398-4798-8069-5A19C5842A5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2C42AA-41D3-4776-B314-5996FE73BF6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96E6D-33B8-4BF8-8C58-05B754FAAF6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B13D1D-6844-4D85-9E7D-A82280F1939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983F1E-2D0A-4771-982B-F91F599949A6}"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2AA83-4368-415A-8823-32073509B502}"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E56DE-4846-44E7-8370-4E853F329CD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6AADD1-A0C3-4852-98C6-C2FC9C0B3E1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A96659-CC24-46D4-9FA2-C3DADEFA28E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19CA1-50C5-46C0-B4A4-3A324E561A79}"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95D91E-AF71-401E-990D-72A9E41359C1}"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ABEAA0-EAE4-468D-9AAE-09FD9BD6AC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326F5-3173-457A-A615-678AC2CDB5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0EC97-0A1E-4E8A-B974-50A9F23A03F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8CA28-3260-459C-8DD0-AC80D0944BF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070ED-4628-4544-BD72-61255789608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149271-9BF6-46AF-AAA3-AD95D8A6F7D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8537E-4948-4682-9CC1-FC1C91941EC8}"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7C55D2-387F-44D6-A896-F907CC7F4DF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B8C39D-7413-4D36-BCBF-2CF3B83066B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7425CCD-9DB4-440C-A790-94B9D86D1C8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7972B-D114-40CF-B109-077603A029A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9737A-1709-4E79-A320-8167AA7928A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AB44F93-73A6-40AB-8E50-C17F07135279}"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F6FE2-0C8E-41A6-9B70-1160BA9F66F4}"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6387A-6A43-4EFC-9D4E-E813D9F75E6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C93C9-A412-4912-844B-3862FCB302F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6BAFA-39CB-420A-AB43-683E723429B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B35606-9443-46CF-B884-B51778CCB94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ABDDE-8B7D-4B58-88D2-57F8EA0A933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0EA726-E4F2-4AEE-9592-B8566ED894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79EC6B1-9B15-4BF0-973A-E1B008887AA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F377B0-535C-4C2D-B134-2C9DEF3E865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2AD7A-2F7F-4F23-859C-D2B3D8EE0B3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33B2B9-2579-49BA-AE18-49DEE6E6AA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799DB3-07DB-404C-82A5-22C9DD8228E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A7422-68DF-406F-955F-DEF2643C7D0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B00D94-DB41-417E-826E-6C3DEF91653C}"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060ED5-3D1E-4EEF-BFDB-0606B378C00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701D-8E6E-45B5-B3CB-42A31CC89E94}"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51E51-05A0-4C7C-89D3-EEDE8C7D469F}"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D9F3E-9818-4206-B28A-4751836B765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E758D5E-A10A-4172-AEC2-254623A5462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D8AA-B8F0-4AC8-B11D-6146E13B9E65}"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24B2B6-9387-428D-9AAD-C0931660E6E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468F07-057A-4DAD-A6BF-8631BE5DFC4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1B85B1-A4D9-4503-AAB0-F4AD86EE0BAA}"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29BF7E-ECCD-462C-B56F-B249152B25D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DB08A-6C85-4E53-A2AC-E0F61701FF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C4BD72-D106-45B5-B77C-67315B5B8428}"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57EB9-F99D-4048-AD64-A0E9B7D0287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61B5EC-7A06-4F7A-ADC2-82B4F3AEC0D4}"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53910-59DF-4AD7-9119-EBED503E8C4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BD6914C-5D1C-4979-8B74-A02C2C39CE9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D8603-73D6-404D-AC98-D4FEC3E1844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CE05E87-3EB8-49D2-974F-886F142BAB4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CCB9AE-0254-4D0C-BBA7-5AF513F67EF6}"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C8805F-0D8A-40E3-84E0-E9226595B32B}"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1675C-95CF-49F0-819A-DAB013B74C3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198D9-10C0-4656-A5FA-353EE6291239}"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C79755-DCAB-4A27-A1D6-B711214A7D84}"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726116-590B-41BE-B65C-726191E8EAE6}"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4723D4-8113-483C-B012-0AA63CAD005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777C12-4BBA-4C93-B17C-4C8AE8C78E5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578846-8973-4506-9892-70E31CC9DC39}"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B6A36-31D7-4AB6-A8BB-D2C905CC962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961DB-811A-4579-A859-A828A21AA71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C620A4-919E-4012-8CC4-7F0597898B2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459901-7934-4D8D-83C9-1E0CD1F7023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F8624-E7AE-48D2-BA43-A1CEB114573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05160F-8796-4484-8F8C-E96F4C95BF65}"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DF03D89-3CBD-4698-A033-98376374B1FA}"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8D697-CEB0-41E8-A3A3-AE9D7E90EF42}"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22536-A484-437E-AEFB-14D5D449B29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6EA854-765A-443E-BA9F-49287B8A328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5125B5-61B0-488B-A5F8-B4C73651D17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D36CA-BEC1-464F-93D6-0D149CD9426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50A12D-C65A-4CFF-8279-B922395A688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6A2ADC-D770-4847-B555-2AD7EA93F54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542802-A2A0-483A-B404-78066D1FCD9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2CE49-CE78-4DC1-AA4A-7E5B6F24C76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F2C8A7-63F2-4C8D-BB22-40C32971210F}"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E5007-1184-42C8-AFF2-DAD73F4F043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F8979-797C-47D5-A857-C2FFD8CE61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2FA25-DC3C-4C9C-A180-F171DBF4965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70E2D-D79A-409B-A98E-586630E6136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88568-2804-4612-9DE3-DB307460A15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E645DE-1201-4928-A013-B14171E5844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8942F9-0521-4F14-B38E-27F069DA886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313B6-9903-4F41-945F-DD83E2E1330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EE250-2C19-4B78-A186-4A1CCBA7F2D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43D0E-6F5A-49D1-B37D-8F253264A48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0D62-91AE-4D27-B644-844D07BDA1B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69D6F-90AB-4BA3-8039-59D2EC09F4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CAF4-CCA9-4CC5-93A2-6EA6FCC3D1F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E0DC83-EA25-4585-A12C-DE2AE73A26A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5C576F-6E94-48F7-94D6-CAF78F9B35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6372E-59DF-4466-B7A4-44DE8F2AF07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5F81D9-6F38-4F9A-AA8E-4E7A53344DE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1C5311-78D5-492B-BD3A-71A95A5C711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5EBF2-289B-4942-801B-71A36DB6097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05B01-6E2A-41D1-A7A4-3FF0FAD7493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1B56DB-CECA-4B3B-B608-C4D6E59DBE0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E3F58-823F-410E-BF90-0FF5010B426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DD2CB8-6819-47E1-BE3E-D97A5851B42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0756A-F23B-4737-8CEE-4A071D63AF9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E2AAA-2C28-468C-AC74-F532ABC7DC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2DE030-1629-4C82-8D13-7A4C7DA4E11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AFB33-E1C7-404E-A449-E925DAA8C2D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D34B2B-6D6B-4416-90B4-F2B0A6989E1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9F13E-B2DF-4AA2-A393-3186103D16E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AF7DF-3DED-41E0-A772-B60451D302D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65880-25E3-4F1A-904B-52874FB9601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0EFA5-31A2-4EF7-BCF7-1B280BD8CE5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78323-5CCC-4D10-8A64-60BFAE7590E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4915A-B0DF-4688-B2A2-1EB9722402C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4378E-6DFF-4A6D-931F-3E6AAD116709}"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FFDBC-28FB-4588-A35B-5D1959F673A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E772D1-5411-4929-B0DD-672FCE338800}"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FCB38C-2545-43DE-AFE4-A812D579D94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F5AE1-4020-48BB-A027-A77EACA2008C}"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A6845-04BB-405D-BFF3-5006E73DFD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C33041-3F5B-43C3-9B6E-093A2DA9FA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41154-C3AE-42C4-9FD4-2B9A16DB930B}"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DECA9C-68BB-40E6-A2E4-C305F908833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BFDEF-C284-4216-ABF8-C95BFC60AC0C}"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D2FF5E-8B7C-4D10-8387-17A68FD36203}"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59FC29-8916-4172-8CE7-54F4B1A67EDC}"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60B09-ED54-4A21-94D9-E910D9D7433B}"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CA150-CFC2-40D1-9B0C-E7CEB6B58A1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37494E-4692-4C5C-8ABB-A2C2F48D903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B2F3B-2D8D-4157-A1B4-E7323256E372}"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54483A-8737-4E2B-B209-59A3C34810B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65D6C-113E-4998-A972-76FD7736DA9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931D6-C249-4283-B191-0F483380B582}"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8314F3-0B30-4396-906B-99D89187540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0B4DB9-B7BE-4EA2-9805-07823B162AE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79344-1BD7-4F4D-A8B2-8C430C26D20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5F6AD-2E5C-4EC0-9B1C-C4E9241A8D7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E19184-DB1D-407A-8516-DE3A811D53C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BB6A7-55E0-493A-AA60-5D1DC75D14A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E2F2B4-8BB5-498C-AB6C-7D6FEF643926}"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28418-E5AD-43A9-A0CF-BF59D9D520C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ABEC21-5350-4A7D-85D2-B9B34B75B4B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41E7F-3884-4455-A705-8252B3AE88A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6D757-71F1-47F3-B3E0-BF35D597599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2BAFB9-FEAD-4B75-BD56-32B06B6582A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C1DCA69-8F0F-4224-9303-A8D51960035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DB4373-0E7A-4D0A-A705-91E8417F01D3}"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35750F-63FE-4EFD-BAA9-72750726037D}"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D91532-C2B4-450B-8E8B-14F7D6C3511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9D10F-8D94-471B-A890-9938E892CF7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B4C77-8CC9-49A4-B680-38D02023AF93}"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2CFE8-D075-4F1F-8B10-A291F32D68AD}"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52DAF-C044-4211-A82B-4A7492EAD25A}"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512F6-3CF9-4A2F-A2E0-95C01EA3FBA7}"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7F6E384-444C-4B5D-8EE1-11C2554791F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8194-F426-42FB-8BC9-6A674B3B04B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9B225-6C58-4833-A99D-882B21B1D81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63CCB3-E2CA-4ED2-8033-10452A793B4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AE161-195D-47D6-A787-D836CCC82C2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A0B05-FBE4-4AB3-B2C9-5F340496E02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5F451-F5F7-452F-9885-DDE0CC778F7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558B9F-9F68-43E6-BC5A-3B7B390055E4}"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92E01-E58F-43DB-B1A7-BA86A75981ED}"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414725-3889-4324-B8BB-BB439AB9264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E8549F-5568-4D04-A545-8FC065BE5411}"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5D76C-3684-42B8-B3DE-BA669FF693B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05E75E-51C3-42AB-9258-E03C329EEDD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14CDE-FB46-416F-AE77-B0C799891602}"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E62662-2B51-4B35-B16C-A77CF63C4E1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48B6FB-B469-4EA7-871B-BCEA3E1CE92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2228A3-92BB-495E-9BBA-72B4ED28C07C}"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1E4FD-147A-4160-AC4C-274A7C04F10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145419-B623-46BA-ABEF-681AFB75BD41}"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633A0-CE4E-48B7-BD98-5D6FDE38C16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8DF46-F38D-44E9-A992-C72CAA3E457E}"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C9015-C36D-486C-BB2D-7546AC3BAD9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BC1F-57FC-45DF-9E68-5A736227FC9D}"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C3533-D3DD-4395-85BC-89EB33014D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29927F-1A0F-4DCA-AC35-74877AEC1384}"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FD377-2153-4342-8D65-FAEB2DDB3B08}"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B7BB80-60F9-4084-A6A9-F229782A1E5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F91EF-016C-464B-A190-071AE697A54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70D3BD-582C-4893-B18E-47F2490EC9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